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BD59-E50A-4B9A-AF69-EBA50BD3C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5153-49CF-4D79-8984-9EABF820E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1258-3F53-436B-A6F0-73605FA52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FAED-DA69-42DD-9E11-FEE4472BD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3FE0-B3BD-4481-B4FD-07EE4EB12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A5EC-33FD-429C-85E7-8D7B05488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1DC8-840F-46F7-861F-3F2505F56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F473-1AD7-4C50-A76D-538CD3AB8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7CE5-376C-4024-82CD-8ED324023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BCA1-E38A-4435-8A19-B1A3C111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45A8-3316-4396-94FC-F3C51B08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69D3-52CF-4A63-911C-2AA81C60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88D8F-2E9C-4878-90EB-595E342380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52280" y="125280"/>
            <a:ext cx="8839440" cy="6732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839440" cy="6348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1752480" y="0"/>
            <a:ext cx="5585040" cy="6892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990720" y="0"/>
            <a:ext cx="7086600" cy="68724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8839440" cy="5867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VID00251.M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VID00253.M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VID00254.M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VID00255.M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981080" y="0"/>
            <a:ext cx="52340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30T22:15:03Z</dcterms:created>
  <dc:creator>ladibug</dc:creator>
  <dc:description/>
  <dc:language>en-US</dc:language>
  <cp:lastModifiedBy>rchan15</cp:lastModifiedBy>
  <dcterms:modified xsi:type="dcterms:W3CDTF">2012-05-01T16:25:02Z</dcterms:modified>
  <cp:revision>5</cp:revision>
  <dc:subject/>
  <dc:title>Slide 1</dc:title>
</cp:coreProperties>
</file>